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D7AF-CF37-49C3-9506-7B2022F1A9E1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30960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9160" y="208584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81400" y="458640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4480" y="2530440"/>
            <a:ext cx="2263680" cy="91908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3600" y="4692600"/>
            <a:ext cx="2289240" cy="102564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8640" y="353700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353844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6200" y="3044880"/>
            <a:ext cx="879480" cy="240804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040"/>
              <a:gd name="textAreaBottom" fmla="*/ 1746360 h 24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619600" y="278460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130176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38360" y="1297080"/>
            <a:ext cx="1855800" cy="71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568600" y="2025720"/>
            <a:ext cx="839880" cy="1100160"/>
          </a:xfrm>
          <a:custGeom>
            <a:avLst/>
            <a:gdLst>
              <a:gd name="textAreaLeft" fmla="*/ 0 w 839880"/>
              <a:gd name="textAreaRight" fmla="*/ 840240 w 839880"/>
              <a:gd name="textAreaTop" fmla="*/ 360 h 1100160"/>
              <a:gd name="textAreaBottom" fmla="*/ 110088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27" stAng="10800000" swAng="5400000"/>
                <a:lnTo>
                  <a:pt x="12427" y="313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025"/>
                </a:lnTo>
                <a:lnTo>
                  <a:pt x="12427" y="9025"/>
                </a:lnTo>
                <a:arcTo wR="6535" hR="3135" stAng="16200000" swAng="-5400000"/>
                <a:lnTo>
                  <a:pt x="5892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400000">
            <a:off x="5576040" y="2058120"/>
            <a:ext cx="905040" cy="789120"/>
          </a:xfrm>
          <a:custGeom>
            <a:avLst/>
            <a:gdLst>
              <a:gd name="textAreaLeft" fmla="*/ 360 w 905040"/>
              <a:gd name="textAreaRight" fmla="*/ 905760 w 9050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44" stAng="10800000" swAng="5400000"/>
                <a:lnTo>
                  <a:pt x="15800" y="3516"/>
                </a:lnTo>
                <a:lnTo>
                  <a:pt x="15800" y="0"/>
                </a:lnTo>
                <a:lnTo>
                  <a:pt x="21600" y="6079"/>
                </a:lnTo>
                <a:lnTo>
                  <a:pt x="15800" y="12158"/>
                </a:lnTo>
                <a:lnTo>
                  <a:pt x="15800" y="8642"/>
                </a:lnTo>
                <a:lnTo>
                  <a:pt x="12427" y="8642"/>
                </a:lnTo>
                <a:arcTo wR="7301" hR="3518" stAng="16200000" swAng="-5400000"/>
                <a:lnTo>
                  <a:pt x="5126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93080" y="128268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27880" y="1365120"/>
            <a:ext cx="511200" cy="582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47800" y="1417680"/>
            <a:ext cx="793800" cy="582480"/>
          </a:xfrm>
          <a:prstGeom prst="rightArrow">
            <a:avLst>
              <a:gd name="adj1" fmla="val 50000"/>
              <a:gd name="adj2" fmla="val 340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8480" y="1339920"/>
            <a:ext cx="1768680" cy="745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6440" y="213840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4160" y="2068560"/>
            <a:ext cx="1868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3760" y="3479760"/>
            <a:ext cx="2098800" cy="1130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6560" y="346248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4840" y="159228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57800" y="144144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282760" y="1790640"/>
            <a:ext cx="960480" cy="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03960" y="1589040"/>
            <a:ext cx="1378800" cy="374400"/>
            <a:chOff x="903960" y="1589040"/>
            <a:chExt cx="1378800" cy="374400"/>
          </a:xfrm>
        </p:grpSpPr>
        <p:sp>
          <p:nvSpPr>
            <p:cNvPr id="259" name=""/>
            <p:cNvSpPr/>
            <p:nvPr/>
          </p:nvSpPr>
          <p:spPr>
            <a:xfrm>
              <a:off x="903960" y="158904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0480" y="172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4960" y="1611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135840" y="1606680"/>
            <a:ext cx="1123920" cy="390600"/>
            <a:chOff x="6135840" y="1606680"/>
            <a:chExt cx="1123920" cy="390600"/>
          </a:xfrm>
        </p:grpSpPr>
        <p:sp>
          <p:nvSpPr>
            <p:cNvPr id="263" name=""/>
            <p:cNvSpPr/>
            <p:nvPr/>
          </p:nvSpPr>
          <p:spPr>
            <a:xfrm>
              <a:off x="6341400" y="1606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5840" y="1730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400" y="1606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"/>
          <p:cNvCxnSpPr>
            <a:stCxn id="255" idx="3"/>
            <a:endCxn id="264" idx="2"/>
          </p:cNvCxnSpPr>
          <p:nvPr/>
        </p:nvCxnSpPr>
        <p:spPr>
          <a:xfrm>
            <a:off x="4664160" y="1805040"/>
            <a:ext cx="145800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4904640" y="14065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35840" y="971640"/>
            <a:ext cx="1123920" cy="390600"/>
            <a:chOff x="6135840" y="971640"/>
            <a:chExt cx="1123920" cy="390600"/>
          </a:xfrm>
        </p:grpSpPr>
        <p:sp>
          <p:nvSpPr>
            <p:cNvPr id="269" name=""/>
            <p:cNvSpPr/>
            <p:nvPr/>
          </p:nvSpPr>
          <p:spPr>
            <a:xfrm>
              <a:off x="6341400" y="971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840" y="109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15400" y="97164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35840" y="2311560"/>
            <a:ext cx="1123920" cy="390600"/>
            <a:chOff x="6135840" y="2311560"/>
            <a:chExt cx="1123920" cy="390600"/>
          </a:xfrm>
        </p:grpSpPr>
        <p:sp>
          <p:nvSpPr>
            <p:cNvPr id="273" name=""/>
            <p:cNvSpPr/>
            <p:nvPr/>
          </p:nvSpPr>
          <p:spPr>
            <a:xfrm>
              <a:off x="6341400" y="23115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5840" y="2435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5400" y="23115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303800" y="160956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565200"/>
            <a:ext cx="43884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78" name=""/>
          <p:cNvCxnSpPr>
            <a:stCxn id="276" idx="2"/>
            <a:endCxn id="274" idx="2"/>
          </p:cNvCxnSpPr>
          <p:nvPr/>
        </p:nvCxnSpPr>
        <p:spPr>
          <a:xfrm flipH="1" rot="16200000">
            <a:off x="5049000" y="1438560"/>
            <a:ext cx="49608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4640" y="21463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69400" y="3000240"/>
            <a:ext cx="1483200" cy="374040"/>
            <a:chOff x="869400" y="3000240"/>
            <a:chExt cx="1483200" cy="374040"/>
          </a:xfrm>
        </p:grpSpPr>
        <p:sp>
          <p:nvSpPr>
            <p:cNvPr id="282" name=""/>
            <p:cNvSpPr/>
            <p:nvPr/>
          </p:nvSpPr>
          <p:spPr>
            <a:xfrm>
              <a:off x="869400" y="3000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0320" y="3119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62080" y="3021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69400" y="3560760"/>
            <a:ext cx="1483200" cy="374040"/>
            <a:chOff x="869400" y="3560760"/>
            <a:chExt cx="1483200" cy="374040"/>
          </a:xfrm>
        </p:grpSpPr>
        <p:sp>
          <p:nvSpPr>
            <p:cNvPr id="286" name=""/>
            <p:cNvSpPr/>
            <p:nvPr/>
          </p:nvSpPr>
          <p:spPr>
            <a:xfrm>
              <a:off x="869400" y="356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0320" y="367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62080" y="358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69400" y="4121280"/>
            <a:ext cx="1483200" cy="374040"/>
            <a:chOff x="869400" y="4121280"/>
            <a:chExt cx="1483200" cy="374040"/>
          </a:xfrm>
        </p:grpSpPr>
        <p:sp>
          <p:nvSpPr>
            <p:cNvPr id="290" name=""/>
            <p:cNvSpPr/>
            <p:nvPr/>
          </p:nvSpPr>
          <p:spPr>
            <a:xfrm>
              <a:off x="869400" y="412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0320" y="424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062080" y="414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69400" y="4683240"/>
            <a:ext cx="1483200" cy="374040"/>
            <a:chOff x="869400" y="4683240"/>
            <a:chExt cx="1483200" cy="374040"/>
          </a:xfrm>
        </p:grpSpPr>
        <p:sp>
          <p:nvSpPr>
            <p:cNvPr id="294" name=""/>
            <p:cNvSpPr/>
            <p:nvPr/>
          </p:nvSpPr>
          <p:spPr>
            <a:xfrm>
              <a:off x="869400" y="468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0320" y="480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62080" y="470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69400" y="5243400"/>
            <a:ext cx="1483200" cy="374040"/>
            <a:chOff x="869400" y="5243400"/>
            <a:chExt cx="1483200" cy="374040"/>
          </a:xfrm>
        </p:grpSpPr>
        <p:sp>
          <p:nvSpPr>
            <p:cNvPr id="298" name=""/>
            <p:cNvSpPr/>
            <p:nvPr/>
          </p:nvSpPr>
          <p:spPr>
            <a:xfrm>
              <a:off x="869400" y="52434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0320" y="5362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062080" y="5265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69400" y="5805360"/>
            <a:ext cx="1483200" cy="374040"/>
            <a:chOff x="869400" y="5805360"/>
            <a:chExt cx="1483200" cy="374040"/>
          </a:xfrm>
        </p:grpSpPr>
        <p:sp>
          <p:nvSpPr>
            <p:cNvPr id="302" name=""/>
            <p:cNvSpPr/>
            <p:nvPr/>
          </p:nvSpPr>
          <p:spPr>
            <a:xfrm>
              <a:off x="869400" y="58053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0320" y="5924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62080" y="58269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"/>
          <p:cNvCxnSpPr>
            <a:stCxn id="255" idx="2"/>
            <a:endCxn id="283" idx="6"/>
          </p:cNvCxnSpPr>
          <p:nvPr/>
        </p:nvCxnSpPr>
        <p:spPr>
          <a:xfrm rot="5400000">
            <a:off x="2575800" y="1822320"/>
            <a:ext cx="116460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6" name=""/>
          <p:cNvCxnSpPr>
            <a:stCxn id="255" idx="2"/>
            <a:endCxn id="287" idx="6"/>
          </p:cNvCxnSpPr>
          <p:nvPr/>
        </p:nvCxnSpPr>
        <p:spPr>
          <a:xfrm rot="5400000">
            <a:off x="2295720" y="2102400"/>
            <a:ext cx="1724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7" name=""/>
          <p:cNvCxnSpPr>
            <a:stCxn id="255" idx="2"/>
            <a:endCxn id="291" idx="6"/>
          </p:cNvCxnSpPr>
          <p:nvPr/>
        </p:nvCxnSpPr>
        <p:spPr>
          <a:xfrm rot="5400000">
            <a:off x="2015280" y="2382840"/>
            <a:ext cx="228528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8" name=""/>
          <p:cNvCxnSpPr>
            <a:stCxn id="255" idx="2"/>
            <a:endCxn id="295" idx="6"/>
          </p:cNvCxnSpPr>
          <p:nvPr/>
        </p:nvCxnSpPr>
        <p:spPr>
          <a:xfrm rot="5400000">
            <a:off x="1734480" y="2663640"/>
            <a:ext cx="284724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255" idx="2"/>
            <a:endCxn id="299" idx="6"/>
          </p:cNvCxnSpPr>
          <p:nvPr/>
        </p:nvCxnSpPr>
        <p:spPr>
          <a:xfrm rot="5400000">
            <a:off x="1454040" y="2944080"/>
            <a:ext cx="3407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0" name=""/>
          <p:cNvCxnSpPr>
            <a:stCxn id="255" idx="2"/>
            <a:endCxn id="303" idx="6"/>
          </p:cNvCxnSpPr>
          <p:nvPr/>
        </p:nvCxnSpPr>
        <p:spPr>
          <a:xfrm rot="5400000">
            <a:off x="1173240" y="3224880"/>
            <a:ext cx="396972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2576880" y="279864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6880" y="33814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76880" y="39448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880" y="44910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6880" y="50562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880" y="563724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ffffff"/>
            </a:solidFill>
            <a:miter/>
          </a:ln>
        </p:spPr>
      </p:cxnSp>
      <p:grpSp>
        <p:nvGrpSpPr>
          <p:cNvPr id="331" name="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339" name="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348" name="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kiss_db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2040" y="934920"/>
          <a:ext cx="4172040" cy="51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34920"/>
                    <a:ext cx="4172040" cy="517860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5146560" y="1300320"/>
            <a:ext cx="2187360" cy="4804920"/>
            <a:chOff x="5146560" y="1300320"/>
            <a:chExt cx="2187360" cy="4804920"/>
          </a:xfrm>
        </p:grpSpPr>
        <p:grpSp>
          <p:nvGrpSpPr>
            <p:cNvPr id="418" name=""/>
            <p:cNvGrpSpPr/>
            <p:nvPr/>
          </p:nvGrpSpPr>
          <p:grpSpPr>
            <a:xfrm>
              <a:off x="5146560" y="2102040"/>
              <a:ext cx="2187360" cy="4003200"/>
              <a:chOff x="5146560" y="2102040"/>
              <a:chExt cx="2187360" cy="400320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5780160" y="23259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348240" y="21020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888880" y="32637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379480" y="33001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146200" y="44452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060960" y="44416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884920" y="1300320"/>
              <a:ext cx="1233720" cy="875520"/>
              <a:chOff x="5884920" y="1300320"/>
              <a:chExt cx="1233720" cy="875520"/>
            </a:xfrm>
          </p:grpSpPr>
          <p:sp>
            <p:nvSpPr>
              <p:cNvPr id="426" name=""/>
              <p:cNvSpPr/>
              <p:nvPr/>
            </p:nvSpPr>
            <p:spPr>
              <a:xfrm>
                <a:off x="6123600" y="13003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84920" y="20102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98" name="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646600" y="995400"/>
            <a:ext cx="3213360" cy="4971600"/>
            <a:chOff x="5646600" y="995400"/>
            <a:chExt cx="3213360" cy="4971600"/>
          </a:xfrm>
        </p:grpSpPr>
        <p:graphicFrame>
          <p:nvGraphicFramePr>
            <p:cNvPr id="430" name=""/>
            <p:cNvGraphicFramePr/>
            <p:nvPr/>
          </p:nvGraphicFramePr>
          <p:xfrm>
            <a:off x="5646600" y="2031840"/>
            <a:ext cx="3213360" cy="39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2031840"/>
                      <a:ext cx="3213360" cy="39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 txBox="1"/>
            <p:nvPr/>
          </p:nvSpPr>
          <p:spPr>
            <a:xfrm>
              <a:off x="7245360" y="995400"/>
              <a:ext cx="1211400" cy="13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12840" y="23162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40400" y="571176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800" y="148104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640" y="9730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00" y="28288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0200" y="5751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120" y="3343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8040" y="520380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320" y="469260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440" y="417348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6720" y="514836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72520" y="95400"/>
            <a:ext cx="85345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03120" y="74628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74628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9880" y="4610160"/>
            <a:ext cx="8131320" cy="512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18960" y="74448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74448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531720" y="337176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0840" y="74160"/>
            <a:ext cx="853452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9" name="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3" name="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4" name="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70" name="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5" name="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0" name="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" name="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04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graphicFrame>
          <p:nvGraphicFramePr>
            <p:cNvPr id="108" name=""/>
            <p:cNvGraphicFramePr/>
            <p:nvPr/>
          </p:nvGraphicFramePr>
          <p:xfrm>
            <a:off x="200160" y="3784680"/>
            <a:ext cx="29368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3784680"/>
                      <a:ext cx="29368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1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16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23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29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6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2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5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68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9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9:43Z</dcterms:modified>
  <cp:revision>92</cp:revision>
  <dc:subject/>
  <dc:title>Mapping Tables</dc:title>
</cp:coreProperties>
</file>